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5E2-380E-44FD-ACBE-B6C84AF7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76F-8E90-4F6C-AA1B-89637F42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A6C-246D-44EC-A4F2-EAEEF031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3A5-C96A-497A-9CEE-2B5E63BE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A46-F6DB-4F8C-99DD-193956E3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DCE-0E37-46C4-B46F-D45E6C34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640-893E-4782-81DD-D5C61B17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665-0144-4F30-808F-0330165C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58C-B8AD-41D2-A01D-560FECF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EB6-BC87-4011-9953-23FBE7D5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A6F-AB32-4DD7-AE60-3CB2BF13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1D5-AF0E-4F57-8D44-7A7CC2AD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5C29-C0B7-4EC4-843F-A591269B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30592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Prophetic Bles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people who live on this earth that are believers in Jesus and know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914400"/>
            <a:ext cx="632448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, as men and women, shall rise up and fight against the Beast and those who are with him, and in so doing “blood” shall be she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762120"/>
            <a:ext cx="7391160" cy="5257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1039680"/>
            <a:ext cx="70102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 if you do this, Jesus the Son of God, our Lord and Savior, will come and take you into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s Father’s hous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85800"/>
            <a:ext cx="7543800" cy="5334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838080"/>
            <a:ext cx="64008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thus it shall be in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s it was in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gin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 In 7 days God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mplete His Creation upon this Ear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as it was in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gin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o shall it be in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57200"/>
            <a:ext cx="8001000" cy="5943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28800" y="1143000"/>
            <a:ext cx="57150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d Bless each one. In Jesus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lo Cod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609480"/>
            <a:ext cx="7467480" cy="5562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181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thebiblejubilee 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600200"/>
            <a:ext cx="6477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 the faithful in Christ Jesu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is prophesy is          said to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25432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is is a Trump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17524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 it was in the Creation, so shall it be in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nd Ti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ay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n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40384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 shall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1676520"/>
            <a:ext cx="4343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rawn into and guided by the L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762120"/>
            <a:ext cx="7086600" cy="51814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1219320"/>
            <a:ext cx="41911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shall be called into a walk of separation with Go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838080"/>
            <a:ext cx="7086600" cy="5181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219320"/>
            <a:ext cx="4191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shall spring forth with growth for the L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762120"/>
            <a:ext cx="7086600" cy="51814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04920"/>
            <a:ext cx="6476760" cy="5957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shall shine as the stars of the Heaven, and bring forth the Light of God to all those around you during these times. You shall present yourselves to Him 3 times in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1447920"/>
            <a:ext cx="51055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 shall fly on Eagle’s wings and be made Fishers of m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762120"/>
            <a:ext cx="7086600" cy="51814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2:20:58Z</dcterms:created>
  <dc:creator>Lalo Codona</dc:creator>
  <dc:description/>
  <dc:language>en-US</dc:language>
  <cp:lastModifiedBy>user</cp:lastModifiedBy>
  <dcterms:modified xsi:type="dcterms:W3CDTF">2004-05-27T16:19:24Z</dcterms:modified>
  <cp:revision>15</cp:revision>
  <dc:subject/>
  <dc:title>The Blessing</dc:title>
</cp:coreProperties>
</file>